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jpeg" ContentType="image/jpeg"/>
  <Override PartName="/ppt/media/image7.png" ContentType="image/pn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67716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54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dt" idx="12"/>
          </p:nvPr>
        </p:nvSpPr>
        <p:spPr>
          <a:xfrm>
            <a:off x="3836880" y="0"/>
            <a:ext cx="29354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Img"/>
          </p:nvPr>
        </p:nvSpPr>
        <p:spPr>
          <a:xfrm>
            <a:off x="917280" y="773280"/>
            <a:ext cx="4940280" cy="37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13"/>
          </p:nvPr>
        </p:nvSpPr>
        <p:spPr>
          <a:xfrm>
            <a:off x="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 type="sldNum" idx="14"/>
          </p:nvPr>
        </p:nvSpPr>
        <p:spPr>
          <a:xfrm>
            <a:off x="383688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FD5B1-86A4-49BD-AC4B-7053E8F0575B}" type="slidenum"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3688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F29AA-BE3F-4E9B-AE4C-869879E9FA96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0000" cy="37130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3688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AFFBF-6EE5-484C-8C60-0F41AE5EC0E0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0000" cy="37130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3688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784AB-0FDE-486D-90F8-E64CFB2B0B04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0000" cy="37130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3688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63E35-57E2-4FF8-94AB-6200C66287E4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0000" cy="37130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3688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58741-D964-41BB-89C3-C0DB2FA78270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0000" cy="37130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3688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60B30-570B-4EB2-8864-8464D794F586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0000" cy="37130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3688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951FD-F2F2-4FA2-A8DD-42970F04D35A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0000" cy="37130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3688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22804-7667-4552-9598-D99416748B80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12960" y="743040"/>
            <a:ext cx="4948200" cy="37130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humanitarian instrument follow a logical approach from the objectives (saving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) </a:t>
            </a:r>
            <a:r>
              <a:rPr b="1" i="1" lang="en-GB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o save and preserve life during emergencies and their immediate aftermath) to the modality of intervention. We will concentrate on medium &amp; long term interven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3688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7A5DB-1073-4659-A2B7-B231F4EB4435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0000" cy="37130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3688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15AC4-8501-4A20-8F9B-03D61CE5628F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912960" y="743040"/>
            <a:ext cx="4948200" cy="37130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e will look at the possibility encountered to consider intervention in situation of intervention at the main steps of the intervention cyc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3688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35983-A980-49C4-A5EA-6DDD3A10CC47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0000" cy="37130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compendium: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Consists of the entire legal, political, financial and procedural system within which the EC services must operate when carrying out interventions in man-made, natural or structural crisis situation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overs the EU treaties, international agreements, overall policies, thematic and sector policies to financial instruments, related financial procedures as well as the entire programming and project cyc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3688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5A88A-7623-43F2-986A-C1866676BAAD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0000" cy="371304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3688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BECAA-F6F2-424C-BCDD-43D5B84AD579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0000" cy="371304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CSP general guidelin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: based on aid effectiveness principles with no specific guidance for delegations operating in situations of crisi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IQSG fich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on integrating transition strategies in EC development programming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complement the CSP Guidelin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MTR guidelin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includes analysis of the security /development (budget) or special attention to situations of fragility and of increasing risk of natural disasters as a result of climate change, food security and LRRD situations (EDF)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Governance profil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: updated regularly, done for all country situations including, difficult partnerships and fragile states, post-conflict situa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CSP general guidelin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: based on aid effectiveness principles with no specific guidance for delegations operating in situations of crisi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IQSG fich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on integrating transition strategies in EC development programming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complement the CSP Guidelin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MTR guidelin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includes analysis of the security /development (budget) or special attention to situations of fragility and of increasing risk of natural disasters as a result of climate change, food security and LRRD situations (EDF)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Governance profil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: updated regularly, done for all country situations including, difficult partnerships and fragile states, post-conflict situa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CSP general guidelin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: based on aid effectiveness principles with no specific guidance for delegations operating in situations of crisi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IQSG fich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on integrating transition strategies in EC development programming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complement the CSP Guidelin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MTR guidelin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includes analysis of the security /development (budget) or special attention to situations of fragility and of increasing risk of natural disasters as a result of climate change, food security and LRRD situations (EDF)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Governance profil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: updated regularly, done for all country situations including, difficult partnerships and fragile states, post-conflict situa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3688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A399E-D7B6-4240-BAAD-484F2D5874A1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912960" y="743040"/>
            <a:ext cx="4948200" cy="371304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e will look at the possibility encountered to consider intervention in situation of intervention at the main steps of the intervention cyc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3688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EA097-71FC-4682-8596-93E7EE9D9713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0000" cy="371304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3688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D8F00-7918-4149-8311-C7553439B586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912960" y="743040"/>
            <a:ext cx="4948200" cy="371304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e will look at the possibility encountered to consider intervention in situation of intervention at the main steps of the intervention cyc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3688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C23AC-EDE0-4CEC-8BE9-7358AF2DAF6A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0000" cy="371304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3688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D8D82-A33A-4E2C-B77D-4439E8BE5B3C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912960" y="743040"/>
            <a:ext cx="4948200" cy="371304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e will look at the possibility encountered to consider intervention in situation of intervention at the main steps of the intervention cyc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3688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ED645-EDA7-4E5C-BC9B-930F645034EE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0000" cy="371304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3688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E5FA6-D8EA-4F2A-B1A1-583730BA5124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0000" cy="371304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3688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69120-129A-4733-9B51-CFC669E316E9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0000" cy="371304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3688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981BA-4DD0-4ECF-B97E-9F0296EC17CE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0000" cy="37130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3688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7EB02-B69F-4E85-82F6-357F583C2B16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0000" cy="371304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3688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60A20-691D-4AB7-B6BB-22AD57F6A37E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0000" cy="371304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ructure of the framewor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onsists of the entire legal, political, financial and procedural system within which the EC services must operate when carrying out interventions in man-made, natural or structural crisis situation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overs the EU treaties, international agreements, overall policies, thematic and sector policies to financial instruments, related financial procedures as well as the entire programming and project cyc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5718240" y="9407520"/>
            <a:ext cx="10540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003B0-8A5B-413D-8469-805EB140F6C2}" type="slidenum">
              <a:rPr b="0" lang="fr-FR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0000" cy="371304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ructure of the framewor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onsists of the entire legal, political, financial and procedural system within which the EC services must operate when carrying out interventions in man-made, natural or structural crisis situation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overs the EU treaties, international agreements, overall policies, thematic and sector policies to financial instruments, related financial procedures as well as the entire programming and project cyc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5718240" y="9407520"/>
            <a:ext cx="10540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419B5-4D1F-4FF8-9B57-D02B55D20814}" type="slidenum">
              <a:rPr b="0" lang="fr-FR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0000" cy="371304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3688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B10C6-6760-463D-8CAC-3256A75272F5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0000" cy="37130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wo legal and political framework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isbon Treaty: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Overall legal and political framework for EC intervention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n situations of transitions/frag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otonou Agreement: Overall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egal and political framework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for EC interventions in 79 African, Caribbean and Pacific countries (ACP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3688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F9BEE-20C0-4CE1-B1FC-8186386E0B34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0000" cy="3713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3688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4C713-EB2A-40C0-8049-70F8CFF121F4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0000" cy="37130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he Cotonou Agreement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enables provisions funded from the non-programmable reserve for countries that, exceptionally, cannot access programmable resources including wherever Art. 96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(sanctions) are in place (Art 3, Annex IV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Quick, light and speedy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d hoc reviews can be conducted in situations of crisis to change the CSP and/or the focal/non-focal sectors (Art 5, annex IV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3688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3DC0B-63D9-43E1-90F2-ADEBAA087906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0000" cy="3713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3688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D0870-7F0C-49DD-99C3-3749A410324B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0000" cy="37130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3688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9DD4F-0B02-4CF6-B831-D9D532930721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0000" cy="3713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Joint Statemen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by the Council and the Representatives of the Governments of the Member States meeting within the Council, the European Parliament and the European Commissio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et out the EU policy framework and contain political commitment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and mandates the EC to establish specific set of structures, procedures and modalities that allow effective respons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Guidance on interventions in situations of transition/fragility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nd explicitly refers to the linking of relief, rehabilitation and developmen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291A-5D30-478D-8BD5-D6FF5474A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B38D-7BC3-478B-9D38-19D264663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D049-99D5-4826-A5C3-5A811E85B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673C-37B7-4C7B-AEA2-9069E2508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34D33-2FA2-4827-80B5-777938D12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10D4B-C001-4493-B924-4ACB41269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A9C2B-CED1-4F5E-BD31-2E1467D21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1FDF1-DA72-43D2-8643-5D7D20926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6CC91-1707-4E45-86DF-88FE0F6DC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90E73-3298-450C-A8CC-A37073EA2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98692-11FD-444D-B6E2-8E4B0697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5FEF-ACDC-4236-BC18-263339053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B633F-9C79-43D0-A49B-79FAE50C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0F96D-4DA5-45F1-9026-0AE65D37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72C1E-57EA-43CD-9A63-C8E8E0EE5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EA75A-638E-4D4F-92CB-07449B460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C2438-563A-42BC-AEB0-B33EB41D5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357BF-4263-4BBF-BE09-1021B98DE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C674B-96A3-4636-9EDD-B32827F16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6C5A9-11F1-45D8-81AE-3D386EA8E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A561C-2E52-423D-B351-5459103DF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E5299-D72B-41CD-98F0-D42700F48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8783-DBD8-4E8D-8CAA-7185A6FCA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31DEA-778F-482C-AF1A-F686031A9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74410-2343-4DFF-8BB3-530BBBD4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1002E-8485-40CA-8BC5-FC89792B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2222F-74F5-47BB-B789-5ED817A2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A595E-B414-48B8-9802-75ED37E06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DA352-0777-43F3-96A3-CEB36744F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74E05-8B81-4CEB-86CB-9A8DC0BCD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3625-5E24-4B43-8196-13A0C85B6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9A47-26A0-4EA7-A1F8-63A1D6879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0ACD-F750-4981-AD81-BFD82C70F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E8C3-62E8-4EAF-BB2E-3B7ABEED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F7F5-BCB4-4262-B70A-DE69AFC0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9378-59E5-44D7-8F8C-D9A39920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a6c8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5E0E5-01CC-45B6-9A04-54A7340C12C0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grpSp>
        <p:nvGrpSpPr>
          <p:cNvPr id="11" name="Group 13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12" name="Rectangle 14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14" name="Rectangle 16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4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55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6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7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8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3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0" name="Rectangle 14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61" name="Group 15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62" name="Rectangle 16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63" name="Rectangle 17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64" name="Rectangle 18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19" descr=""/>
          <p:cNvPicPr/>
          <p:nvPr/>
        </p:nvPicPr>
        <p:blipFill>
          <a:blip r:embed="rId2"/>
          <a:stretch/>
        </p:blipFill>
        <p:spPr>
          <a:xfrm>
            <a:off x="7251840" y="5388120"/>
            <a:ext cx="1065240" cy="12808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4355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684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103c72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29CC9-E8D3-4C34-92A0-34E8F6C967F5}" type="slidenum">
              <a:rPr b="0" lang="zh-CN" sz="1000" spc="-1" strike="noStrike">
                <a:solidFill>
                  <a:srgbClr val="103c72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108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109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110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11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12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grpSp>
        <p:nvGrpSpPr>
          <p:cNvPr id="113" name="Group 13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114" name="Rectangle 14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115" name="Group 15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116" name="Rectangle 16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17" name="Rectangle 17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18" name="Rectangle 18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pic>
        <p:nvPicPr>
          <p:cNvPr id="119" name="Picture 2" descr="logo%20eu"/>
          <p:cNvPicPr/>
          <p:nvPr/>
        </p:nvPicPr>
        <p:blipFill>
          <a:blip r:embed="rId2"/>
          <a:stretch/>
        </p:blipFill>
        <p:spPr>
          <a:xfrm>
            <a:off x="647640" y="723960"/>
            <a:ext cx="1168560" cy="7621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3"/>
          <p:cNvSpPr/>
          <p:nvPr/>
        </p:nvSpPr>
        <p:spPr>
          <a:xfrm>
            <a:off x="2019240" y="665280"/>
            <a:ext cx="615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aa1f1d"/>
                </a:solidFill>
                <a:latin typeface="Verdana"/>
              </a:rPr>
              <a:t>Regional Food Security Seminar Asia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aa1f1d"/>
                </a:solidFill>
                <a:latin typeface="Verdana"/>
              </a:rPr>
              <a:t>Vientiane, Laos 21st – 25th June 2010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a6c8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AE192-DE45-4CD8-9F1D-53F05A4F70F1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163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164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165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66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67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grpSp>
        <p:nvGrpSpPr>
          <p:cNvPr id="168" name="Group 13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169" name="Rectangle 14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170" name="Group 15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171" name="Rectangle 16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72" name="Rectangle 17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73" name="Rectangle 18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0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214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215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216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217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218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grpSp>
        <p:nvGrpSpPr>
          <p:cNvPr id="219" name="Group 13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220" name="Rectangle 14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221" name="Group 15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222" name="Rectangle 16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223" name="Rectangle 17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224" name="Rectangle 18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ftr" idx="11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49.xml"/><Relationship Id="rId7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81FC5-3192-40C6-8EBE-7882618926FF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2" name="ZoneTexte 6"/>
          <p:cNvSpPr/>
          <p:nvPr/>
        </p:nvSpPr>
        <p:spPr>
          <a:xfrm>
            <a:off x="393840" y="2031840"/>
            <a:ext cx="797544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Situations of transition and LRRD interventions </a:t>
            </a:r>
            <a:br>
              <a:rPr sz="2800"/>
            </a:br>
            <a:r>
              <a:rPr b="1" i="1" lang="en-GB" sz="2800" spc="-1" strike="noStrike">
                <a:solidFill>
                  <a:srgbClr val="000000"/>
                </a:solidFill>
                <a:latin typeface="Verdana"/>
              </a:rPr>
              <a:t>Institutional and Regulatory Framework</a:t>
            </a:r>
            <a:br>
              <a:rPr sz="2800"/>
            </a:b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Verdana"/>
              </a:rPr>
              <a:t>22 June 2010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sabelle Le Normand – Consultant on Transition and LRR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20680" y="689040"/>
            <a:ext cx="777240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 main common elements on transition</a:t>
            </a:r>
            <a:br>
              <a:rPr sz="2800"/>
            </a:br>
            <a:r>
              <a:rPr b="1" i="1" lang="en-GB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n the consensus &amp; Strategy</a:t>
            </a:r>
            <a:endParaRPr b="1" lang="en-US" sz="28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宋体"/>
              </a:rPr>
              <a:t>Ensure 3C’s :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宋体"/>
              </a:rPr>
              <a:t>coordination, complementarity and coherence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宋体"/>
              </a:rPr>
              <a:t>across the various EC and EU interventions,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宋体"/>
              </a:rPr>
              <a:t>Integrated transition strategies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宋体"/>
              </a:rPr>
              <a:t>in a post-crisis situation development,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宋体"/>
              </a:rPr>
              <a:t>Ensure a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宋体"/>
              </a:rPr>
              <a:t>better linkage between relief, rehabilitation and development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宋体"/>
              </a:rPr>
              <a:t>Ensure effective, speedy interventions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宋体"/>
              </a:rPr>
              <a:t>in situations of transition,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宋体"/>
              </a:rPr>
              <a:t>Working into the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宋体"/>
              </a:rPr>
              <a:t>framework of multilateral efforts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宋体"/>
              </a:rPr>
              <a:t>including UN peace building commission and establish principle of ownership and partnership,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宋体"/>
              </a:rPr>
              <a:t>Joint analysis,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宋体"/>
              </a:rPr>
              <a:t>joint monitoring and assessments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宋体"/>
              </a:rPr>
              <a:t>with other donors,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宋体"/>
              </a:rPr>
              <a:t>Draft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宋体"/>
              </a:rPr>
              <a:t>a set of guidelines for intervention in countries in crisis/post crisis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10666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Verdana"/>
                <a:ea typeface="宋体"/>
              </a:rPr>
              <a:t>B) Policy frameworks</a:t>
            </a:r>
            <a:endParaRPr b="1" lang="en-US" sz="36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6940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B.1) Overall policy framework: </a:t>
            </a: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European consensus &amp; Strategy</a:t>
            </a: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B.2) Sector policy </a:t>
            </a: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framework: </a:t>
            </a: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EC communications &amp;</a:t>
            </a: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Council conclusions</a:t>
            </a: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297" name="Picture 4" descr="MC900438493[1]"/>
          <p:cNvPicPr/>
          <p:nvPr/>
        </p:nvPicPr>
        <p:blipFill>
          <a:blip r:embed="rId3"/>
          <a:stretch/>
        </p:blipFill>
        <p:spPr>
          <a:xfrm>
            <a:off x="6567480" y="3068640"/>
            <a:ext cx="2136960" cy="32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EU policy framework for interventions in  situations of transition </a:t>
            </a:r>
            <a:endParaRPr b="1" lang="en-US" sz="32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7724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7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C communication: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Towards an EU Response to Situations of Fragility - engaging in difficult environments for sustainable development, stability and peace, (COM(2007) 643/SEC(2007) 1417,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Council conclusions: 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U response to 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situations of fragility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, 2831st External Relations Council meeting, Brussels, Nov 2007,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On 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Security and Development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, 2831st External Relations Council meeting, Brussels, Nov 2007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And other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communications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ther EC Communications</a:t>
            </a:r>
            <a:endParaRPr b="1" lang="en-US" sz="32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7724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Linking relief, Rehabilitation and Development – An assessment, Com(2001)153,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EU strategy for supporting Disaster Risk Reduction in Developing countries, Com(2009)84,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Reinforcing the Union’s Disaster Response capacity, Com(2008)130,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EU policy framework to assist in addressing food security challenges, Com(2010)127,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Humanitarian Food Assistance, Com(2010)126,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Key points in EU sector policy framework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55640" y="1701360"/>
            <a:ext cx="77724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ahoma"/>
                <a:ea typeface="宋体"/>
              </a:rPr>
              <a:t>Situation analysis: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宋体"/>
              </a:rPr>
              <a:t>No unique model, LRRD develop in broader economic, social and political context; joint analysis and assessment,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ahoma"/>
                <a:ea typeface="宋体"/>
              </a:rPr>
              <a:t>Programming: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宋体"/>
              </a:rPr>
              <a:t>(i) better incorporation of LRRD analysis/assessment in CSP/RSPs’; (ii) Increased attention to Disaster Risk Reduction at national and regional level (notably in countries prone to natural disasters); (iii) LRRD included in political dialogue; (iv) focus on vulnerable groups; (v) predictability funding required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ahoma"/>
                <a:ea typeface="宋体"/>
              </a:rPr>
              <a:t>Implementation: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宋体"/>
              </a:rPr>
              <a:t>effective use of the EC policy tools and external action instruments; use of existing flexible tools and procedures,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ahoma"/>
                <a:ea typeface="宋体"/>
              </a:rPr>
              <a:t>Coordination/complementarity: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宋体"/>
              </a:rPr>
              <a:t>within EU (focus on joint actions and instruments) ; partnership with UN and other multilateral organisations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ahoma"/>
                <a:ea typeface="宋体"/>
              </a:rPr>
              <a:t>Risk management: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宋体"/>
              </a:rPr>
              <a:t>Accept a level of risk to respond in timely and efficient manner to post-crisis situation,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1066680"/>
            <a:ext cx="80773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Structure of the compendium</a:t>
            </a:r>
            <a:endParaRPr b="1" lang="en-US" sz="3200" spc="-1" strike="noStrike">
              <a:solidFill>
                <a:srgbClr val="aa1f1d"/>
              </a:solidFill>
              <a:latin typeface="Verdana"/>
            </a:endParaRPr>
          </a:p>
        </p:txBody>
      </p:sp>
      <p:pic>
        <p:nvPicPr>
          <p:cNvPr id="305" name="Picture 4" descr="MC900251251[1]"/>
          <p:cNvPicPr/>
          <p:nvPr/>
        </p:nvPicPr>
        <p:blipFill>
          <a:blip r:embed="rId1"/>
          <a:stretch/>
        </p:blipFill>
        <p:spPr>
          <a:xfrm>
            <a:off x="7308720" y="3860640"/>
            <a:ext cx="1297080" cy="162576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3"/>
          <p:cNvSpPr/>
          <p:nvPr/>
        </p:nvSpPr>
        <p:spPr>
          <a:xfrm>
            <a:off x="684360" y="1844640"/>
            <a:ext cx="72198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175320" indent="-1753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175320" indent="-175320">
              <a:lnSpc>
                <a:spcPct val="90000"/>
              </a:lnSpc>
              <a:spcBef>
                <a:spcPts val="1199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A) EU Treaty and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175320" indent="-17532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international agreemen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175320" indent="-1753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175320" indent="-175320">
              <a:lnSpc>
                <a:spcPct val="90000"/>
              </a:lnSpc>
              <a:spcBef>
                <a:spcPts val="1199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B) Policy frameworks: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175320" indent="-17532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Overall and sector policie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175320" indent="-1753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175320" indent="-175320">
              <a:lnSpc>
                <a:spcPct val="90000"/>
              </a:lnSpc>
              <a:spcBef>
                <a:spcPts val="1199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C) Financial instruments &amp;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175320" indent="-17532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Financial and implementing procedures: Programming/Intervention cycle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10666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) Instruments – Implementing procedures</a:t>
            </a:r>
            <a:endParaRPr b="1" lang="en-US" sz="32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6940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C.1) Financial instruments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宋体"/>
              </a:rPr>
              <a:t>Humanitarian aid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宋体"/>
              </a:rPr>
              <a:t>Long-term instrument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C.2) Financial and implementing 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procedures: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Intervention cycle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  <a:ea typeface="宋体"/>
              </a:rPr>
              <a:t>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309" name="Picture 4" descr="MC900438493[1]"/>
          <p:cNvPicPr/>
          <p:nvPr/>
        </p:nvPicPr>
        <p:blipFill>
          <a:blip r:embed="rId5"/>
          <a:stretch/>
        </p:blipFill>
        <p:spPr>
          <a:xfrm>
            <a:off x="6516720" y="2924280"/>
            <a:ext cx="2136600" cy="32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Verdana"/>
                <a:ea typeface="宋体"/>
              </a:rPr>
              <a:t>C.1 “Long-term” EC Financing Instruments of interventions in transition situations</a:t>
            </a:r>
            <a:endParaRPr b="1" lang="en-US" sz="2600" spc="-1" strike="noStrike">
              <a:solidFill>
                <a:srgbClr val="aa1f1d"/>
              </a:solidFill>
              <a:latin typeface="Verdana"/>
            </a:endParaRPr>
          </a:p>
        </p:txBody>
      </p:sp>
      <p:pic>
        <p:nvPicPr>
          <p:cNvPr id="311" name="Picture 3" descr=""/>
          <p:cNvPicPr/>
          <p:nvPr/>
        </p:nvPicPr>
        <p:blipFill>
          <a:blip r:embed="rId1"/>
          <a:stretch/>
        </p:blipFill>
        <p:spPr>
          <a:xfrm>
            <a:off x="1477800" y="2060640"/>
            <a:ext cx="61866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10666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Verdana"/>
                <a:ea typeface="宋体"/>
              </a:rPr>
              <a:t>C) Instruments – Implementing procedures</a:t>
            </a:r>
            <a:endParaRPr b="1" lang="en-US" sz="36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6940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C.1) Financial instruments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C.2) Financial and implementing 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Procedures tools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Programming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&amp; Intervention cycle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  <a:ea typeface="宋体"/>
              </a:rPr>
              <a:t>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314" name="Picture 4" descr="MC900438493[1]"/>
          <p:cNvPicPr/>
          <p:nvPr/>
        </p:nvPicPr>
        <p:blipFill>
          <a:blip r:embed="rId3"/>
          <a:stretch/>
        </p:blipFill>
        <p:spPr>
          <a:xfrm>
            <a:off x="6516720" y="2924280"/>
            <a:ext cx="2136600" cy="32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Diagram 2"/>
          <p:cNvGrpSpPr/>
          <p:nvPr/>
        </p:nvGrpSpPr>
        <p:grpSpPr>
          <a:xfrm>
            <a:off x="684360" y="720360"/>
            <a:ext cx="8064000" cy="6315840"/>
            <a:chOff x="684360" y="720360"/>
            <a:chExt cx="8064000" cy="6315840"/>
          </a:xfrm>
        </p:grpSpPr>
        <p:sp>
          <p:nvSpPr>
            <p:cNvPr id="316" name="_s1028"/>
            <p:cNvSpPr/>
            <p:nvPr/>
          </p:nvSpPr>
          <p:spPr>
            <a:xfrm>
              <a:off x="2649960" y="1514520"/>
              <a:ext cx="4080960" cy="482436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17" name="_s1029"/>
            <p:cNvSpPr/>
            <p:nvPr/>
          </p:nvSpPr>
          <p:spPr>
            <a:xfrm rot="3600000">
              <a:off x="2278440" y="1886040"/>
              <a:ext cx="4824360" cy="408096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18" name="_s1030"/>
            <p:cNvSpPr/>
            <p:nvPr/>
          </p:nvSpPr>
          <p:spPr>
            <a:xfrm rot="7200000">
              <a:off x="2328480" y="1788840"/>
              <a:ext cx="4823640" cy="40813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19" name="_s1031"/>
            <p:cNvSpPr/>
            <p:nvPr/>
          </p:nvSpPr>
          <p:spPr>
            <a:xfrm rot="10800000">
              <a:off x="2842920" y="1267920"/>
              <a:ext cx="4081320" cy="48236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20" name="_s1032"/>
            <p:cNvSpPr/>
            <p:nvPr/>
          </p:nvSpPr>
          <p:spPr>
            <a:xfrm rot="14400000">
              <a:off x="2277720" y="1885680"/>
              <a:ext cx="4824360" cy="408096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21" name="_s1033"/>
            <p:cNvSpPr/>
            <p:nvPr/>
          </p:nvSpPr>
          <p:spPr>
            <a:xfrm rot="18000000">
              <a:off x="2278080" y="1885680"/>
              <a:ext cx="4824360" cy="408096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22" name="_s1034"/>
            <p:cNvSpPr/>
            <p:nvPr/>
          </p:nvSpPr>
          <p:spPr>
            <a:xfrm>
              <a:off x="5231160" y="1940400"/>
              <a:ext cx="142848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680" rIns="7668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400" spc="-1" strike="noStrike">
                  <a:solidFill>
                    <a:srgbClr val="000000"/>
                  </a:solidFill>
                  <a:latin typeface="Arial"/>
                </a:rPr>
                <a:t>Identification </a:t>
              </a:r>
              <a:endParaRPr b="0" lang="en-US" sz="14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23" name="_s1035"/>
            <p:cNvSpPr/>
            <p:nvPr/>
          </p:nvSpPr>
          <p:spPr>
            <a:xfrm>
              <a:off x="5867280" y="3660120"/>
              <a:ext cx="144792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680" rIns="7668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400" spc="-1" strike="noStrike">
                  <a:solidFill>
                    <a:srgbClr val="000000"/>
                  </a:solidFill>
                  <a:latin typeface="Arial"/>
                </a:rPr>
                <a:t>Formulation</a:t>
              </a:r>
              <a:endParaRPr b="0" lang="en-US" sz="14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24" name="_s1036"/>
            <p:cNvSpPr/>
            <p:nvPr/>
          </p:nvSpPr>
          <p:spPr>
            <a:xfrm>
              <a:off x="2626920" y="1641960"/>
              <a:ext cx="1524240" cy="68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680" rIns="7668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olling programming</a:t>
              </a:r>
              <a:endParaRPr b="0" lang="en-US" sz="14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25" name="_s1037"/>
            <p:cNvSpPr/>
            <p:nvPr/>
          </p:nvSpPr>
          <p:spPr>
            <a:xfrm>
              <a:off x="5486760" y="5329080"/>
              <a:ext cx="172836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680" rIns="7668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nancing Decision</a:t>
              </a:r>
              <a:endParaRPr b="0" lang="en-US" sz="14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26" name="_s1038"/>
            <p:cNvSpPr/>
            <p:nvPr/>
          </p:nvSpPr>
          <p:spPr>
            <a:xfrm>
              <a:off x="2626920" y="5452920"/>
              <a:ext cx="1595880" cy="5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680" rIns="7668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mplementation</a:t>
              </a:r>
              <a:endParaRPr b="0" lang="en-US" sz="1400" spc="-1" strike="noStrike">
                <a:solidFill>
                  <a:srgbClr val="80808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tracting</a:t>
              </a:r>
              <a:endParaRPr b="0" lang="en-US" sz="14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27" name="_s1039"/>
            <p:cNvSpPr/>
            <p:nvPr/>
          </p:nvSpPr>
          <p:spPr>
            <a:xfrm>
              <a:off x="1835280" y="3584520"/>
              <a:ext cx="1787400" cy="59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680" rIns="7668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400" spc="-1" strike="noStrike">
                  <a:solidFill>
                    <a:srgbClr val="000000"/>
                  </a:solidFill>
                  <a:latin typeface="Arial"/>
                </a:rPr>
                <a:t>Monitoring and Evaluation</a:t>
              </a:r>
              <a:endParaRPr b="0" lang="en-US" sz="14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28" name="Text Box 16"/>
            <p:cNvSpPr/>
            <p:nvPr/>
          </p:nvSpPr>
          <p:spPr>
            <a:xfrm>
              <a:off x="1692360" y="1567800"/>
              <a:ext cx="1152360" cy="29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00"/>
                  </a:solidFill>
                  <a:latin typeface="Times New Roman"/>
                </a:rPr>
                <a:t>CSP/RSP</a:t>
              </a:r>
              <a:r>
                <a:rPr b="0" lang="fr-BE" sz="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7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29" name="Text Box 17"/>
            <p:cNvSpPr/>
            <p:nvPr/>
          </p:nvSpPr>
          <p:spPr>
            <a:xfrm>
              <a:off x="1187280" y="2016360"/>
              <a:ext cx="923760" cy="29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AOR/MTR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30" name="Text Box 18"/>
            <p:cNvSpPr/>
            <p:nvPr/>
          </p:nvSpPr>
          <p:spPr>
            <a:xfrm>
              <a:off x="6877080" y="1865880"/>
              <a:ext cx="879480" cy="32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P/PIF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31" name="Text Box 19"/>
            <p:cNvSpPr/>
            <p:nvPr/>
          </p:nvSpPr>
          <p:spPr>
            <a:xfrm>
              <a:off x="7451640" y="5378400"/>
              <a:ext cx="924120" cy="32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00"/>
                  </a:solidFill>
                  <a:latin typeface="Times New Roman"/>
                </a:rPr>
                <a:t>AAP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32" name="Text Box 20"/>
            <p:cNvSpPr/>
            <p:nvPr/>
          </p:nvSpPr>
          <p:spPr>
            <a:xfrm>
              <a:off x="7164360" y="3808440"/>
              <a:ext cx="1584000" cy="29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AF/DTA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5580000" y="5805360"/>
              <a:ext cx="2304720" cy="77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inancing Agreement, Contract Agreement,</a:t>
              </a:r>
              <a:endParaRPr b="0" lang="en-US" sz="1000" spc="-1" strike="noStrike">
                <a:solidFill>
                  <a:srgbClr val="80808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legation Agreement</a:t>
              </a:r>
              <a:endParaRPr b="0" lang="en-US" sz="10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34" name="Text Box 22"/>
            <p:cNvSpPr/>
            <p:nvPr/>
          </p:nvSpPr>
          <p:spPr>
            <a:xfrm>
              <a:off x="827280" y="4780800"/>
              <a:ext cx="1726920" cy="82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Grants, Contracts (Service, works..), Budget support, Programme estimates</a:t>
              </a:r>
              <a:endParaRPr b="0" lang="en-US" sz="10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35" name="Text Box 23"/>
            <p:cNvSpPr/>
            <p:nvPr/>
          </p:nvSpPr>
          <p:spPr>
            <a:xfrm>
              <a:off x="684360" y="3360600"/>
              <a:ext cx="723240" cy="372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00"/>
                  </a:solidFill>
                  <a:latin typeface="Times New Roman"/>
                </a:rPr>
                <a:t>ROM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36" name="Text Box 24"/>
            <p:cNvSpPr/>
            <p:nvPr/>
          </p:nvSpPr>
          <p:spPr>
            <a:xfrm>
              <a:off x="755640" y="3884760"/>
              <a:ext cx="7477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00"/>
                  </a:solidFill>
                  <a:latin typeface="Times New Roman"/>
                </a:rPr>
                <a:t>EAMR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37" name="Text Box 26"/>
            <p:cNvSpPr/>
            <p:nvPr/>
          </p:nvSpPr>
          <p:spPr>
            <a:xfrm>
              <a:off x="1339560" y="2783160"/>
              <a:ext cx="1346400" cy="43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trategy evaluations</a:t>
              </a:r>
              <a:endParaRPr b="0" lang="en-US" sz="10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  <p:sp>
        <p:nvSpPr>
          <p:cNvPr id="338" name="Text Box 27"/>
          <p:cNvSpPr/>
          <p:nvPr/>
        </p:nvSpPr>
        <p:spPr>
          <a:xfrm>
            <a:off x="-7560" y="930240"/>
            <a:ext cx="8574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How to consider intervening in transition along the project cycle</a:t>
            </a:r>
            <a:endParaRPr b="0" lang="en-US" sz="2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06080" y="596520"/>
            <a:ext cx="80773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1" lang="en-US" sz="32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19000" y="1750680"/>
            <a:ext cx="72835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Objective of this presentation: 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1" marL="343080" indent="-3430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to provide an overview of the compendium,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1" marL="343080" indent="-3430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to get your feedback based on your practical experiences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Purpose of the compendium: to assist the services of the EC with quick and easy access to core aspects of the </a:t>
            </a:r>
            <a:r>
              <a:rPr b="1" i="1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existing institutional and regulatory framework that impact on EC interventions in situations of transition.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33280" y="485280"/>
            <a:ext cx="777240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Programming Principles </a:t>
            </a:r>
            <a:endParaRPr b="1" lang="en-US" sz="32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11280" y="120960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DRR, LRRD intervention could be  identified as 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focal or non-focal sector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 in EU programming documents (CSP/RSPs) as fragilty, peace building and DRR interventions in post crisis situation =&gt; 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key objectives for EU external relations, 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Resource allocation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 shall take account of difficulties facing countries (Annex IV of Cotonou, European Consensus, Art 15, Art 18.2 DCI),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Allocation to cover unforeseen needs such as post-crisis situations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(Art. 1 &amp; 3 of Annex IV, Cotonou, DCI article 19)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Ad hoc review of the country's or region's cooperation strategy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in specific circumstances (crises, post conflict situations or threats to democracy, …Art 19.5 DCI),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785484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ow to consider situation of transition in the Programming</a:t>
            </a:r>
            <a:endParaRPr b="1" lang="en-US" sz="32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77724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宋体"/>
              </a:rPr>
              <a:t>At the level of the CSP and MTR, and ad hoc review of the CSP; however, there is no specific guidance for delegations operating in situations of transition (crisis/post crisis),</a:t>
            </a:r>
            <a:endParaRPr b="0" lang="en-US" sz="32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宋体"/>
              </a:rPr>
              <a:t>Decision process: using fast track procedure (ex: for ad hoc review), </a:t>
            </a:r>
            <a:endParaRPr b="0" lang="en-US" sz="32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Diagram 2"/>
          <p:cNvGrpSpPr/>
          <p:nvPr/>
        </p:nvGrpSpPr>
        <p:grpSpPr>
          <a:xfrm>
            <a:off x="684360" y="720360"/>
            <a:ext cx="8064000" cy="6315840"/>
            <a:chOff x="684360" y="720360"/>
            <a:chExt cx="8064000" cy="6315840"/>
          </a:xfrm>
        </p:grpSpPr>
        <p:sp>
          <p:nvSpPr>
            <p:cNvPr id="344" name="_s2052"/>
            <p:cNvSpPr/>
            <p:nvPr/>
          </p:nvSpPr>
          <p:spPr>
            <a:xfrm>
              <a:off x="2649960" y="1514520"/>
              <a:ext cx="4080960" cy="482436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 rot="3600000">
              <a:off x="2278440" y="1886040"/>
              <a:ext cx="4824360" cy="408096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rot="7200000">
              <a:off x="2328480" y="1788840"/>
              <a:ext cx="4823640" cy="40813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 rot="10800000">
              <a:off x="2842920" y="1267920"/>
              <a:ext cx="4081320" cy="48236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 rot="14400000">
              <a:off x="2277720" y="1885680"/>
              <a:ext cx="4824360" cy="408096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 rot="18000000">
              <a:off x="2278080" y="1885680"/>
              <a:ext cx="4824360" cy="408096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231160" y="1940400"/>
              <a:ext cx="142848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680" rIns="7668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400" spc="-1" strike="noStrike">
                  <a:solidFill>
                    <a:srgbClr val="000000"/>
                  </a:solidFill>
                  <a:latin typeface="Times New Roman"/>
                </a:rPr>
                <a:t>Identification </a:t>
              </a:r>
              <a:endParaRPr b="0" lang="en-US" sz="14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5867280" y="3660120"/>
              <a:ext cx="144792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680" rIns="7668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400" spc="-1" strike="noStrike">
                  <a:solidFill>
                    <a:srgbClr val="000000"/>
                  </a:solidFill>
                  <a:latin typeface="Times New Roman"/>
                </a:rPr>
                <a:t>Formulation</a:t>
              </a:r>
              <a:endParaRPr b="0" lang="en-US" sz="14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>
              <a:off x="2626920" y="1641960"/>
              <a:ext cx="1524240" cy="68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680" rIns="7668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400" spc="-1" strike="noStrike">
                  <a:solidFill>
                    <a:srgbClr val="000000"/>
                  </a:solidFill>
                  <a:latin typeface="Times New Roman"/>
                </a:rPr>
                <a:t>Rolling programming</a:t>
              </a:r>
              <a:endParaRPr b="0" lang="en-US" sz="14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5435640" y="5304240"/>
              <a:ext cx="172872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680" rIns="7668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400" spc="-1" strike="noStrike">
                  <a:solidFill>
                    <a:srgbClr val="000000"/>
                  </a:solidFill>
                  <a:latin typeface="Times New Roman"/>
                </a:rPr>
                <a:t>Financing Decision</a:t>
              </a:r>
              <a:endParaRPr b="0" lang="en-US" sz="14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>
              <a:off x="2626920" y="5452920"/>
              <a:ext cx="1595880" cy="5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680" rIns="7668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400" spc="-1" strike="noStrike">
                  <a:solidFill>
                    <a:srgbClr val="000000"/>
                  </a:solidFill>
                  <a:latin typeface="Times New Roman"/>
                </a:rPr>
                <a:t>Implementation</a:t>
              </a:r>
              <a:endParaRPr b="0" lang="en-US" sz="1400" spc="-1" strike="noStrike">
                <a:solidFill>
                  <a:srgbClr val="80808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400" spc="-1" strike="noStrike">
                  <a:solidFill>
                    <a:srgbClr val="000000"/>
                  </a:solidFill>
                  <a:latin typeface="Times New Roman"/>
                </a:rPr>
                <a:t>contracting</a:t>
              </a:r>
              <a:endParaRPr b="0" lang="en-US" sz="14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1835280" y="3584520"/>
              <a:ext cx="1787400" cy="59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680" rIns="7668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400" spc="-1" strike="noStrike">
                  <a:solidFill>
                    <a:srgbClr val="000000"/>
                  </a:solidFill>
                  <a:latin typeface="Times New Roman"/>
                </a:rPr>
                <a:t>Monitoring and Evaluation</a:t>
              </a:r>
              <a:endParaRPr b="0" lang="en-US" sz="14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56" name="Text Box 16"/>
            <p:cNvSpPr/>
            <p:nvPr/>
          </p:nvSpPr>
          <p:spPr>
            <a:xfrm>
              <a:off x="1692360" y="1567800"/>
              <a:ext cx="1152360" cy="29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00"/>
                  </a:solidFill>
                  <a:latin typeface="Times New Roman"/>
                </a:rPr>
                <a:t>CSP/RSP</a:t>
              </a:r>
              <a:r>
                <a:rPr b="0" lang="fr-BE" sz="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7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57" name="Text Box 17"/>
            <p:cNvSpPr/>
            <p:nvPr/>
          </p:nvSpPr>
          <p:spPr>
            <a:xfrm>
              <a:off x="1187280" y="2016360"/>
              <a:ext cx="923760" cy="29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AOR/MTR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58" name="Text Box 18"/>
            <p:cNvSpPr/>
            <p:nvPr/>
          </p:nvSpPr>
          <p:spPr>
            <a:xfrm>
              <a:off x="6877080" y="1865880"/>
              <a:ext cx="879480" cy="32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P/PIF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59" name="Text Box 19"/>
            <p:cNvSpPr/>
            <p:nvPr/>
          </p:nvSpPr>
          <p:spPr>
            <a:xfrm>
              <a:off x="7451640" y="5378400"/>
              <a:ext cx="924120" cy="32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00"/>
                  </a:solidFill>
                  <a:latin typeface="Times New Roman"/>
                </a:rPr>
                <a:t>AAP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60" name="Text Box 20"/>
            <p:cNvSpPr/>
            <p:nvPr/>
          </p:nvSpPr>
          <p:spPr>
            <a:xfrm>
              <a:off x="7164360" y="3808440"/>
              <a:ext cx="1584000" cy="29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AF/DTA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61" name="Text Box 21"/>
            <p:cNvSpPr/>
            <p:nvPr/>
          </p:nvSpPr>
          <p:spPr>
            <a:xfrm>
              <a:off x="5580000" y="5805360"/>
              <a:ext cx="2304720" cy="77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Financing Agreement, Contract Agreement,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Delegation Agreement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62" name="Text Box 22"/>
            <p:cNvSpPr/>
            <p:nvPr/>
          </p:nvSpPr>
          <p:spPr>
            <a:xfrm>
              <a:off x="827280" y="4780800"/>
              <a:ext cx="1726920" cy="82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00"/>
                  </a:solidFill>
                  <a:latin typeface="Times New Roman"/>
                </a:rPr>
                <a:t>Grants, Contracts (Service, works..), Budget support, Programme estimates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63" name="Text Box 23"/>
            <p:cNvSpPr/>
            <p:nvPr/>
          </p:nvSpPr>
          <p:spPr>
            <a:xfrm>
              <a:off x="684360" y="3360600"/>
              <a:ext cx="723240" cy="372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00"/>
                  </a:solidFill>
                  <a:latin typeface="Times New Roman"/>
                </a:rPr>
                <a:t>ROM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64" name="Text Box 24"/>
            <p:cNvSpPr/>
            <p:nvPr/>
          </p:nvSpPr>
          <p:spPr>
            <a:xfrm>
              <a:off x="755640" y="3884760"/>
              <a:ext cx="7477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00"/>
                  </a:solidFill>
                  <a:latin typeface="Times New Roman"/>
                </a:rPr>
                <a:t>EAMR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65" name="Text Box 25"/>
            <p:cNvSpPr/>
            <p:nvPr/>
          </p:nvSpPr>
          <p:spPr>
            <a:xfrm>
              <a:off x="1403640" y="2770560"/>
              <a:ext cx="1345680" cy="43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00"/>
                  </a:solidFill>
                  <a:latin typeface="Times New Roman"/>
                </a:rPr>
                <a:t>Strategy evaluations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  <p:sp>
        <p:nvSpPr>
          <p:cNvPr id="366" name="Text Box 26"/>
          <p:cNvSpPr/>
          <p:nvPr/>
        </p:nvSpPr>
        <p:spPr>
          <a:xfrm>
            <a:off x="211320" y="930240"/>
            <a:ext cx="805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How to consider intervening in transition along the project cycle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24000" y="930240"/>
            <a:ext cx="7694640" cy="11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ow to consider situation of transition in the Identification/formulation process</a:t>
            </a:r>
            <a:endParaRPr b="1" lang="en-US" sz="32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4360" y="2420640"/>
            <a:ext cx="77724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ts val="2798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There is no specific guidance for projects or programmes in situation of transition (Project Identification Fiche, Action Fiche, Annual Action Programme),</a:t>
            </a: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ts val="2798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No specific consideration in the oQSG of intervention in situation of transition,</a:t>
            </a: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Diagram 2"/>
          <p:cNvGrpSpPr/>
          <p:nvPr/>
        </p:nvGrpSpPr>
        <p:grpSpPr>
          <a:xfrm>
            <a:off x="684360" y="720360"/>
            <a:ext cx="8064000" cy="6315840"/>
            <a:chOff x="684360" y="720360"/>
            <a:chExt cx="8064000" cy="6315840"/>
          </a:xfrm>
        </p:grpSpPr>
        <p:sp>
          <p:nvSpPr>
            <p:cNvPr id="370" name="_s3076"/>
            <p:cNvSpPr/>
            <p:nvPr/>
          </p:nvSpPr>
          <p:spPr>
            <a:xfrm>
              <a:off x="2649960" y="1514520"/>
              <a:ext cx="4080960" cy="482436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71" name="_s3077"/>
            <p:cNvSpPr/>
            <p:nvPr/>
          </p:nvSpPr>
          <p:spPr>
            <a:xfrm rot="3600000">
              <a:off x="2278440" y="1886040"/>
              <a:ext cx="4824360" cy="408096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72" name="_s3078"/>
            <p:cNvSpPr/>
            <p:nvPr/>
          </p:nvSpPr>
          <p:spPr>
            <a:xfrm rot="7200000">
              <a:off x="2328480" y="1788840"/>
              <a:ext cx="4823640" cy="40813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73" name="_s3079"/>
            <p:cNvSpPr/>
            <p:nvPr/>
          </p:nvSpPr>
          <p:spPr>
            <a:xfrm rot="10800000">
              <a:off x="2842920" y="1267920"/>
              <a:ext cx="4081320" cy="48236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74" name="_s3080"/>
            <p:cNvSpPr/>
            <p:nvPr/>
          </p:nvSpPr>
          <p:spPr>
            <a:xfrm rot="14400000">
              <a:off x="2277720" y="1885680"/>
              <a:ext cx="4824360" cy="408096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75" name="_s3081"/>
            <p:cNvSpPr/>
            <p:nvPr/>
          </p:nvSpPr>
          <p:spPr>
            <a:xfrm rot="18000000">
              <a:off x="2278080" y="1885680"/>
              <a:ext cx="4824360" cy="408096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76" name="_s3082"/>
            <p:cNvSpPr/>
            <p:nvPr/>
          </p:nvSpPr>
          <p:spPr>
            <a:xfrm>
              <a:off x="5231160" y="1940400"/>
              <a:ext cx="142848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680" rIns="7668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400" spc="-1" strike="noStrike">
                  <a:solidFill>
                    <a:srgbClr val="000000"/>
                  </a:solidFill>
                  <a:latin typeface="Times New Roman"/>
                </a:rPr>
                <a:t>Identification </a:t>
              </a:r>
              <a:endParaRPr b="0" lang="en-US" sz="14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77" name="_s3083"/>
            <p:cNvSpPr/>
            <p:nvPr/>
          </p:nvSpPr>
          <p:spPr>
            <a:xfrm>
              <a:off x="5867280" y="3660120"/>
              <a:ext cx="144792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680" rIns="7668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400" spc="-1" strike="noStrike">
                  <a:solidFill>
                    <a:srgbClr val="000000"/>
                  </a:solidFill>
                  <a:latin typeface="Times New Roman"/>
                </a:rPr>
                <a:t>Formulation</a:t>
              </a:r>
              <a:endParaRPr b="0" lang="en-US" sz="14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78" name="_s3084"/>
            <p:cNvSpPr/>
            <p:nvPr/>
          </p:nvSpPr>
          <p:spPr>
            <a:xfrm>
              <a:off x="2626920" y="1641960"/>
              <a:ext cx="1524240" cy="68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680" rIns="7668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400" spc="-1" strike="noStrike">
                  <a:solidFill>
                    <a:srgbClr val="000000"/>
                  </a:solidFill>
                  <a:latin typeface="Times New Roman"/>
                </a:rPr>
                <a:t>Rolling programming</a:t>
              </a:r>
              <a:endParaRPr b="0" lang="en-US" sz="14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79" name="_s3085"/>
            <p:cNvSpPr/>
            <p:nvPr/>
          </p:nvSpPr>
          <p:spPr>
            <a:xfrm>
              <a:off x="5435640" y="5304240"/>
              <a:ext cx="172872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680" rIns="7668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400" spc="-1" strike="noStrike">
                  <a:solidFill>
                    <a:srgbClr val="000000"/>
                  </a:solidFill>
                  <a:latin typeface="Times New Roman"/>
                </a:rPr>
                <a:t>Financing Decision</a:t>
              </a:r>
              <a:endParaRPr b="0" lang="en-US" sz="14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80" name="_s3086"/>
            <p:cNvSpPr/>
            <p:nvPr/>
          </p:nvSpPr>
          <p:spPr>
            <a:xfrm>
              <a:off x="2626920" y="5452920"/>
              <a:ext cx="1595880" cy="5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680" rIns="7668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400" spc="-1" strike="noStrike">
                  <a:solidFill>
                    <a:srgbClr val="000000"/>
                  </a:solidFill>
                  <a:latin typeface="Times New Roman"/>
                </a:rPr>
                <a:t>Implementation</a:t>
              </a:r>
              <a:endParaRPr b="0" lang="en-US" sz="1400" spc="-1" strike="noStrike">
                <a:solidFill>
                  <a:srgbClr val="80808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400" spc="-1" strike="noStrike">
                  <a:solidFill>
                    <a:srgbClr val="000000"/>
                  </a:solidFill>
                  <a:latin typeface="Times New Roman"/>
                </a:rPr>
                <a:t>contracting</a:t>
              </a:r>
              <a:endParaRPr b="0" lang="en-US" sz="14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81" name="_s3087"/>
            <p:cNvSpPr/>
            <p:nvPr/>
          </p:nvSpPr>
          <p:spPr>
            <a:xfrm>
              <a:off x="1835280" y="3584520"/>
              <a:ext cx="1787400" cy="59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680" rIns="7668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400" spc="-1" strike="noStrike">
                  <a:solidFill>
                    <a:srgbClr val="000000"/>
                  </a:solidFill>
                  <a:latin typeface="Times New Roman"/>
                </a:rPr>
                <a:t>Monitoring and Evaluation</a:t>
              </a:r>
              <a:endParaRPr b="0" lang="en-US" sz="14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82" name="Text Box 16"/>
            <p:cNvSpPr/>
            <p:nvPr/>
          </p:nvSpPr>
          <p:spPr>
            <a:xfrm>
              <a:off x="1692360" y="1567800"/>
              <a:ext cx="1152360" cy="29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00"/>
                  </a:solidFill>
                  <a:latin typeface="Times New Roman"/>
                </a:rPr>
                <a:t>CSP/RSP</a:t>
              </a:r>
              <a:r>
                <a:rPr b="0" lang="fr-BE" sz="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7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83" name="Text Box 17"/>
            <p:cNvSpPr/>
            <p:nvPr/>
          </p:nvSpPr>
          <p:spPr>
            <a:xfrm>
              <a:off x="1187280" y="2016360"/>
              <a:ext cx="923760" cy="29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AOR/MTR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84" name="Text Box 18"/>
            <p:cNvSpPr/>
            <p:nvPr/>
          </p:nvSpPr>
          <p:spPr>
            <a:xfrm>
              <a:off x="6877080" y="1865880"/>
              <a:ext cx="879480" cy="32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P/PIF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85" name="Text Box 19"/>
            <p:cNvSpPr/>
            <p:nvPr/>
          </p:nvSpPr>
          <p:spPr>
            <a:xfrm>
              <a:off x="7451640" y="5378400"/>
              <a:ext cx="924120" cy="32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00"/>
                  </a:solidFill>
                  <a:latin typeface="Times New Roman"/>
                </a:rPr>
                <a:t>AAP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86" name="Text Box 20"/>
            <p:cNvSpPr/>
            <p:nvPr/>
          </p:nvSpPr>
          <p:spPr>
            <a:xfrm>
              <a:off x="7164360" y="3808440"/>
              <a:ext cx="1584000" cy="29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AF/DTA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87" name="Text Box 21"/>
            <p:cNvSpPr/>
            <p:nvPr/>
          </p:nvSpPr>
          <p:spPr>
            <a:xfrm>
              <a:off x="5580000" y="5805360"/>
              <a:ext cx="2304720" cy="77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Financing Agreement, Contract Agreement,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Delegation Agreement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88" name="Text Box 22"/>
            <p:cNvSpPr/>
            <p:nvPr/>
          </p:nvSpPr>
          <p:spPr>
            <a:xfrm>
              <a:off x="827280" y="4780800"/>
              <a:ext cx="1726920" cy="82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00"/>
                  </a:solidFill>
                  <a:latin typeface="Times New Roman"/>
                </a:rPr>
                <a:t>Grants, Contracts (Service, works..), Budget support, Programme estimates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89" name="Text Box 23"/>
            <p:cNvSpPr/>
            <p:nvPr/>
          </p:nvSpPr>
          <p:spPr>
            <a:xfrm>
              <a:off x="684360" y="3360600"/>
              <a:ext cx="723240" cy="372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00"/>
                  </a:solidFill>
                  <a:latin typeface="Times New Roman"/>
                </a:rPr>
                <a:t>ROM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90" name="Text Box 24"/>
            <p:cNvSpPr/>
            <p:nvPr/>
          </p:nvSpPr>
          <p:spPr>
            <a:xfrm>
              <a:off x="755640" y="3884760"/>
              <a:ext cx="7477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00"/>
                  </a:solidFill>
                  <a:latin typeface="Times New Roman"/>
                </a:rPr>
                <a:t>EAMR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91" name="Text Box 25"/>
            <p:cNvSpPr/>
            <p:nvPr/>
          </p:nvSpPr>
          <p:spPr>
            <a:xfrm>
              <a:off x="1403640" y="2770560"/>
              <a:ext cx="1345680" cy="43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00"/>
                  </a:solidFill>
                  <a:latin typeface="Times New Roman"/>
                </a:rPr>
                <a:t>Strategy evaluations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  <p:sp>
        <p:nvSpPr>
          <p:cNvPr id="392" name="Text Box 26"/>
          <p:cNvSpPr/>
          <p:nvPr/>
        </p:nvSpPr>
        <p:spPr>
          <a:xfrm>
            <a:off x="325440" y="955800"/>
            <a:ext cx="805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How to consider intervening in transition along the project cycle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Financing decision process  </a:t>
            </a:r>
            <a:endParaRPr b="1" lang="en-US" sz="36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11280" y="2205000"/>
            <a:ext cx="77724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ts val="2798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Ad hoc decision and special measures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outside the AAP exceptionally and for unforeseen events,</a:t>
            </a: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380880" indent="0">
              <a:lnSpc>
                <a:spcPts val="2798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ts val="2798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Decision process: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Fast track in CIS, submission by written procedure to Members States, short term for SG and Commission,</a:t>
            </a: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Diagram 2"/>
          <p:cNvGrpSpPr/>
          <p:nvPr/>
        </p:nvGrpSpPr>
        <p:grpSpPr>
          <a:xfrm>
            <a:off x="684360" y="720360"/>
            <a:ext cx="8064000" cy="6315840"/>
            <a:chOff x="684360" y="720360"/>
            <a:chExt cx="8064000" cy="6315840"/>
          </a:xfrm>
        </p:grpSpPr>
        <p:sp>
          <p:nvSpPr>
            <p:cNvPr id="396" name="_s4100"/>
            <p:cNvSpPr/>
            <p:nvPr/>
          </p:nvSpPr>
          <p:spPr>
            <a:xfrm>
              <a:off x="2649960" y="1514520"/>
              <a:ext cx="4080960" cy="482436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97" name="_s4101"/>
            <p:cNvSpPr/>
            <p:nvPr/>
          </p:nvSpPr>
          <p:spPr>
            <a:xfrm rot="3600000">
              <a:off x="2278440" y="1886040"/>
              <a:ext cx="4824360" cy="408096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98" name="_s4102"/>
            <p:cNvSpPr/>
            <p:nvPr/>
          </p:nvSpPr>
          <p:spPr>
            <a:xfrm rot="7200000">
              <a:off x="2328480" y="1788840"/>
              <a:ext cx="4823640" cy="40813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399" name="_s4103"/>
            <p:cNvSpPr/>
            <p:nvPr/>
          </p:nvSpPr>
          <p:spPr>
            <a:xfrm rot="10800000">
              <a:off x="2842920" y="1267920"/>
              <a:ext cx="4081320" cy="48236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400" name="_s4104"/>
            <p:cNvSpPr/>
            <p:nvPr/>
          </p:nvSpPr>
          <p:spPr>
            <a:xfrm rot="14400000">
              <a:off x="2277720" y="1885680"/>
              <a:ext cx="4824360" cy="408096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401" name="_s4105"/>
            <p:cNvSpPr/>
            <p:nvPr/>
          </p:nvSpPr>
          <p:spPr>
            <a:xfrm rot="18000000">
              <a:off x="2278080" y="1885680"/>
              <a:ext cx="4824360" cy="408096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402" name="_s4106"/>
            <p:cNvSpPr/>
            <p:nvPr/>
          </p:nvSpPr>
          <p:spPr>
            <a:xfrm>
              <a:off x="5231160" y="1940400"/>
              <a:ext cx="142848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680" rIns="7668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400" spc="-1" strike="noStrike">
                  <a:solidFill>
                    <a:srgbClr val="000000"/>
                  </a:solidFill>
                  <a:latin typeface="Times New Roman"/>
                </a:rPr>
                <a:t>Identification </a:t>
              </a:r>
              <a:endParaRPr b="0" lang="en-US" sz="14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403" name="_s4107"/>
            <p:cNvSpPr/>
            <p:nvPr/>
          </p:nvSpPr>
          <p:spPr>
            <a:xfrm>
              <a:off x="5867280" y="3660120"/>
              <a:ext cx="144792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680" rIns="7668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400" spc="-1" strike="noStrike">
                  <a:solidFill>
                    <a:srgbClr val="000000"/>
                  </a:solidFill>
                  <a:latin typeface="Times New Roman"/>
                </a:rPr>
                <a:t>Formulation</a:t>
              </a:r>
              <a:endParaRPr b="0" lang="en-US" sz="14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404" name="_s4108"/>
            <p:cNvSpPr/>
            <p:nvPr/>
          </p:nvSpPr>
          <p:spPr>
            <a:xfrm>
              <a:off x="2626920" y="1641960"/>
              <a:ext cx="1524240" cy="68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680" rIns="7668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400" spc="-1" strike="noStrike">
                  <a:solidFill>
                    <a:srgbClr val="000000"/>
                  </a:solidFill>
                  <a:latin typeface="Times New Roman"/>
                </a:rPr>
                <a:t>Rolling programming</a:t>
              </a:r>
              <a:endParaRPr b="0" lang="en-US" sz="14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405" name="_s4109"/>
            <p:cNvSpPr/>
            <p:nvPr/>
          </p:nvSpPr>
          <p:spPr>
            <a:xfrm>
              <a:off x="5435640" y="5304240"/>
              <a:ext cx="172872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680" rIns="7668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400" spc="-1" strike="noStrike">
                  <a:solidFill>
                    <a:srgbClr val="000000"/>
                  </a:solidFill>
                  <a:latin typeface="Times New Roman"/>
                </a:rPr>
                <a:t>Financing Decision</a:t>
              </a:r>
              <a:endParaRPr b="0" lang="en-US" sz="14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406" name="_s4110"/>
            <p:cNvSpPr/>
            <p:nvPr/>
          </p:nvSpPr>
          <p:spPr>
            <a:xfrm>
              <a:off x="2626920" y="5452920"/>
              <a:ext cx="1595880" cy="5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680" rIns="7668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400" spc="-1" strike="noStrike">
                  <a:solidFill>
                    <a:srgbClr val="000000"/>
                  </a:solidFill>
                  <a:latin typeface="Times New Roman"/>
                </a:rPr>
                <a:t>Implementation</a:t>
              </a:r>
              <a:endParaRPr b="0" lang="en-US" sz="1400" spc="-1" strike="noStrike">
                <a:solidFill>
                  <a:srgbClr val="80808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400" spc="-1" strike="noStrike">
                  <a:solidFill>
                    <a:srgbClr val="000000"/>
                  </a:solidFill>
                  <a:latin typeface="Times New Roman"/>
                </a:rPr>
                <a:t>contracting</a:t>
              </a:r>
              <a:endParaRPr b="0" lang="en-US" sz="14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407" name="_s4111"/>
            <p:cNvSpPr/>
            <p:nvPr/>
          </p:nvSpPr>
          <p:spPr>
            <a:xfrm>
              <a:off x="1835280" y="3584520"/>
              <a:ext cx="1787400" cy="59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680" rIns="7668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400" spc="-1" strike="noStrike">
                  <a:solidFill>
                    <a:srgbClr val="000000"/>
                  </a:solidFill>
                  <a:latin typeface="Times New Roman"/>
                </a:rPr>
                <a:t>Monitoring and Evaluation</a:t>
              </a:r>
              <a:endParaRPr b="0" lang="en-US" sz="14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408" name="Text Box 16"/>
            <p:cNvSpPr/>
            <p:nvPr/>
          </p:nvSpPr>
          <p:spPr>
            <a:xfrm>
              <a:off x="1692360" y="1567800"/>
              <a:ext cx="1152360" cy="29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00"/>
                  </a:solidFill>
                  <a:latin typeface="Times New Roman"/>
                </a:rPr>
                <a:t>CSP/RSP</a:t>
              </a:r>
              <a:r>
                <a:rPr b="0" lang="fr-BE" sz="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7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409" name="Text Box 17"/>
            <p:cNvSpPr/>
            <p:nvPr/>
          </p:nvSpPr>
          <p:spPr>
            <a:xfrm>
              <a:off x="1187280" y="2016360"/>
              <a:ext cx="923760" cy="29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AOR/MTR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410" name="Text Box 18"/>
            <p:cNvSpPr/>
            <p:nvPr/>
          </p:nvSpPr>
          <p:spPr>
            <a:xfrm>
              <a:off x="6877080" y="1865880"/>
              <a:ext cx="879480" cy="32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P/PIF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411" name="Text Box 19"/>
            <p:cNvSpPr/>
            <p:nvPr/>
          </p:nvSpPr>
          <p:spPr>
            <a:xfrm>
              <a:off x="7451640" y="5378400"/>
              <a:ext cx="924120" cy="32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00"/>
                  </a:solidFill>
                  <a:latin typeface="Times New Roman"/>
                </a:rPr>
                <a:t>AAP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412" name="Text Box 20"/>
            <p:cNvSpPr/>
            <p:nvPr/>
          </p:nvSpPr>
          <p:spPr>
            <a:xfrm>
              <a:off x="7164360" y="3808440"/>
              <a:ext cx="1584000" cy="29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AF/DTA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413" name="Text Box 21"/>
            <p:cNvSpPr/>
            <p:nvPr/>
          </p:nvSpPr>
          <p:spPr>
            <a:xfrm>
              <a:off x="5580000" y="5805360"/>
              <a:ext cx="2304720" cy="77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Financing Agreement, Contract Agreement,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Delegation Agreement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414" name="Text Box 22"/>
            <p:cNvSpPr/>
            <p:nvPr/>
          </p:nvSpPr>
          <p:spPr>
            <a:xfrm>
              <a:off x="827280" y="4780800"/>
              <a:ext cx="1726920" cy="82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00"/>
                  </a:solidFill>
                  <a:latin typeface="Times New Roman"/>
                </a:rPr>
                <a:t>Grants, Contracts (Service, works..), Budget support, Programme estimates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415" name="Text Box 23"/>
            <p:cNvSpPr/>
            <p:nvPr/>
          </p:nvSpPr>
          <p:spPr>
            <a:xfrm>
              <a:off x="684360" y="3360600"/>
              <a:ext cx="723240" cy="372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00"/>
                  </a:solidFill>
                  <a:latin typeface="Times New Roman"/>
                </a:rPr>
                <a:t>ROM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416" name="Text Box 24"/>
            <p:cNvSpPr/>
            <p:nvPr/>
          </p:nvSpPr>
          <p:spPr>
            <a:xfrm>
              <a:off x="755640" y="3884760"/>
              <a:ext cx="7477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00"/>
                  </a:solidFill>
                  <a:latin typeface="Times New Roman"/>
                </a:rPr>
                <a:t>EAMR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417" name="Text Box 25"/>
            <p:cNvSpPr/>
            <p:nvPr/>
          </p:nvSpPr>
          <p:spPr>
            <a:xfrm>
              <a:off x="1403640" y="2770560"/>
              <a:ext cx="1345680" cy="43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320" rIns="6732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200" spc="-1" strike="noStrike">
                  <a:solidFill>
                    <a:srgbClr val="000000"/>
                  </a:solidFill>
                  <a:latin typeface="Times New Roman"/>
                </a:rPr>
                <a:t>Strategy evaluations</a:t>
              </a:r>
              <a:endParaRPr b="0" lang="en-US" sz="12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  <p:sp>
        <p:nvSpPr>
          <p:cNvPr id="418" name="Text Box 26"/>
          <p:cNvSpPr/>
          <p:nvPr/>
        </p:nvSpPr>
        <p:spPr>
          <a:xfrm>
            <a:off x="249120" y="905040"/>
            <a:ext cx="805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How to consider intervening in transition along the project cycle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24000" y="930240"/>
            <a:ext cx="7694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Flexible procedures for EDF/Budget Implementation</a:t>
            </a:r>
            <a:endParaRPr b="1" lang="en-US" sz="32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7632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Use of flexible procedures authorised by DG AIDCO following Cabinet’s approval  (list of fragile states)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Retroactive-financing of on-going actions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(art 171 IR)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xception to call for proposals for Grant contract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(art 168 IR) and 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financing in full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as a derogation to the co-financing requirement for grant actions (art 253 IR),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Procurement contract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(services/supply/works): by negotiated procedures with a single tender in case of (art 126, art 142, art 158a IR, art 242, art 244, art 246 IR), 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Ad hoc derogation for specific project,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Implementation approach</a:t>
            </a:r>
            <a:endParaRPr b="1" lang="en-US" sz="36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4360" y="2420640"/>
            <a:ext cx="7270560" cy="279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EC Budget support in fragile situations: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basic functioning of the state (without real objective of policy support)</a:t>
            </a: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EC contribution to </a:t>
            </a:r>
            <a:r>
              <a:rPr b="1" i="1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trust funds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for quick aid delivery outside national system </a:t>
            </a: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Conclusions</a:t>
            </a:r>
            <a:endParaRPr b="1" lang="en-US" sz="36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7270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798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Legal and policy frameworks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do exist,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43080" indent="-343080">
              <a:lnSpc>
                <a:spcPts val="2798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There is 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provision for intervention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in transition situations within EC 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xisting financing instruments,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43080" indent="-343080">
              <a:lnSpc>
                <a:spcPts val="2798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There is provision for flexible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procedures along the project cycle intervention,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43080" indent="-343080">
              <a:lnSpc>
                <a:spcPts val="2798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But no specific logical approach used for programming and processing intervention in situation of transition.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1066680"/>
            <a:ext cx="80773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ructure of the compendium</a:t>
            </a:r>
            <a:endParaRPr b="1" lang="en-US" sz="32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4000" y="1844640"/>
            <a:ext cx="6940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77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ct val="90000"/>
              </a:lnSpc>
              <a:spcBef>
                <a:spcPts val="1199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A) EU Treaty and 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77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international agreement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77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ct val="90000"/>
              </a:lnSpc>
              <a:spcBef>
                <a:spcPts val="1199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B) Policy frameworks: 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77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Overall and sector policies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77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77120" indent="-177120">
              <a:lnSpc>
                <a:spcPct val="90000"/>
              </a:lnSpc>
              <a:spcBef>
                <a:spcPts val="1199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C) Financial instruments &amp;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77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Financial and implementing procedures: programming/Intervention cycle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277" name="Picture 8" descr="MC900251251[1]"/>
          <p:cNvPicPr/>
          <p:nvPr/>
        </p:nvPicPr>
        <p:blipFill>
          <a:blip r:embed="rId4"/>
          <a:stretch/>
        </p:blipFill>
        <p:spPr>
          <a:xfrm>
            <a:off x="6207120" y="2763720"/>
            <a:ext cx="12636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685440" y="2147400"/>
            <a:ext cx="7270920" cy="13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  <a:ea typeface="宋体"/>
              </a:rPr>
              <a:t>THANK YOU</a:t>
            </a:r>
            <a:endParaRPr b="0" lang="en-US" sz="4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1066320"/>
            <a:ext cx="80773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Key questions</a:t>
            </a:r>
            <a:endParaRPr b="1" lang="en-US" sz="32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755280" y="2106360"/>
            <a:ext cx="6940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798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宋体"/>
              </a:rPr>
              <a:t>1: After having discussed your respective experiences in dealing with transition situations, could you agree on a list of best practices? (at the different stages of the intervention cycle) </a:t>
            </a:r>
            <a:endParaRPr b="0" lang="en-US" sz="32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31280" y="1638000"/>
            <a:ext cx="80773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Key questions</a:t>
            </a:r>
            <a:endParaRPr b="1" lang="en-US" sz="32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69760" y="2536560"/>
            <a:ext cx="6940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798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宋体"/>
              </a:rPr>
              <a:t>2: Could you agree on a list of improvements that HQ should decide for enabling you to better act in transition situations? </a:t>
            </a:r>
            <a:endParaRPr b="0" lang="en-US" sz="32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1549080"/>
            <a:ext cx="80773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Key questions</a:t>
            </a:r>
            <a:endParaRPr b="1" lang="en-US" sz="32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1600" y="2536560"/>
            <a:ext cx="6940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宋体"/>
              </a:rPr>
              <a:t>3: Do you think that it would be a good idea to have a joint “humanitarian development strategic framework” for addressing very specific objectives (for example joint strategic framework (JSF) for reducing the prevalence of malnutrition or JSF for resettlement of IDP/refugees? </a:t>
            </a:r>
            <a:endParaRPr b="0" lang="en-US" sz="3200" spc="-1" strike="noStrike">
              <a:solidFill>
                <a:srgbClr val="103c72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10666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Verdana"/>
                <a:ea typeface="Tahoma"/>
              </a:rPr>
              <a:t>A) EU Treaty and International agreement</a:t>
            </a:r>
            <a:endParaRPr b="1" lang="en-US" sz="26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6940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bon Treaty</a:t>
            </a: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ACP-EU Cotonou Agreement</a:t>
            </a: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280" name="Picture 9" descr="MC900438493[1]"/>
          <p:cNvPicPr/>
          <p:nvPr/>
        </p:nvPicPr>
        <p:blipFill>
          <a:blip r:embed="rId3"/>
          <a:stretch/>
        </p:blipFill>
        <p:spPr>
          <a:xfrm>
            <a:off x="6443640" y="3141720"/>
            <a:ext cx="213696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67920" y="507960"/>
            <a:ext cx="807732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Lisbon Treaty: Legal and political framework for EC interventions in situations of transition/fragility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55280" y="1844640"/>
            <a:ext cx="694044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宋体"/>
              </a:rPr>
              <a:t>The result is two fold: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宋体"/>
              </a:rPr>
              <a:t>objectives related to post-crisis interventions,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宋体"/>
              </a:rPr>
              <a:t>development and humanitarian policy become part of the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宋体"/>
              </a:rPr>
              <a:t> overall EU foreign policy objectives.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宋体"/>
              </a:rPr>
              <a:t>the Lisbon Treaty reinforces the obligation for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宋体"/>
              </a:rPr>
              <a:t>stronger ‘policy mix’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宋体"/>
              </a:rPr>
              <a:t>where each intervention has to be the sum of the entire set of EU all external policies.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宋体"/>
              </a:rPr>
              <a:t>In the medium term, the new Treaty should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宋体"/>
              </a:rPr>
              <a:t>result in a more integrated and comprehensive approach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宋体"/>
              </a:rPr>
              <a:t>with interventions based on humanitarian, development policies and diplomatic, security and other policies and instrument.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9600" y="396360"/>
            <a:ext cx="7772400" cy="9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Cotonou Agreement: 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宋体"/>
              </a:rPr>
              <a:t>legal and</a:t>
            </a:r>
            <a:r>
              <a:rPr b="1" lang="en-GB" sz="2200" spc="-1" strike="noStrike">
                <a:solidFill>
                  <a:srgbClr val="aa1f1d"/>
                </a:solidFill>
                <a:latin typeface="Verdana"/>
                <a:ea typeface="宋体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宋体"/>
              </a:rPr>
              <a:t>political framework for EC interventions in 79 ACP countries</a:t>
            </a:r>
            <a:endParaRPr b="1" lang="en-US" sz="22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35040" y="15696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xplicit commitment to address situations of transition,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Reinforce relation between 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peace, security and development,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Reinforce the need to link to crisis-prevention, early warning and disaster preparedness, disaster risk reduction, 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Underline the need to intervene in a strategic and effective manner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through an 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integrated response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involving diplomatic, security, development and special emergency measures,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Define the crisis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and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 post emergency actions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(Art. 72),  implementing </a:t>
            </a:r>
            <a:r>
              <a:rPr b="1" i="1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procedures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(art. 73), and interventions in exceptional situations (Art 96)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1066680"/>
            <a:ext cx="80773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Structure of the compendium</a:t>
            </a:r>
            <a:endParaRPr b="1" lang="en-US" sz="3200" spc="-1" strike="noStrike">
              <a:solidFill>
                <a:srgbClr val="aa1f1d"/>
              </a:solidFill>
              <a:latin typeface="Verdana"/>
            </a:endParaRPr>
          </a:p>
        </p:txBody>
      </p:sp>
      <p:pic>
        <p:nvPicPr>
          <p:cNvPr id="286" name="Picture 4" descr="MC900251251[1]"/>
          <p:cNvPicPr/>
          <p:nvPr/>
        </p:nvPicPr>
        <p:blipFill>
          <a:blip r:embed="rId1"/>
          <a:stretch/>
        </p:blipFill>
        <p:spPr>
          <a:xfrm>
            <a:off x="6948360" y="2349360"/>
            <a:ext cx="1297080" cy="162576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3"/>
          <p:cNvSpPr/>
          <p:nvPr/>
        </p:nvSpPr>
        <p:spPr>
          <a:xfrm>
            <a:off x="684360" y="1844640"/>
            <a:ext cx="69404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175320" indent="-1753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175320" indent="-175320">
              <a:lnSpc>
                <a:spcPct val="90000"/>
              </a:lnSpc>
              <a:spcBef>
                <a:spcPts val="1199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A) EU Treaty and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175320" indent="-17532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international agreemen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175320" indent="-1753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175320" indent="-175320">
              <a:lnSpc>
                <a:spcPct val="90000"/>
              </a:lnSpc>
              <a:spcBef>
                <a:spcPts val="1199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B) Policy frameworks: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175320" indent="-17532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Overall and sector policie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175320" indent="-1753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175320" indent="-175320">
              <a:lnSpc>
                <a:spcPct val="90000"/>
              </a:lnSpc>
              <a:spcBef>
                <a:spcPts val="1199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C) Financial instruments &amp;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175320" indent="-17532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Financial and implementing procedures: programming/Intervention cycle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68000" y="907560"/>
            <a:ext cx="807732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Verdana"/>
                <a:ea typeface="宋体"/>
              </a:rPr>
              <a:t>B) Policy frameworks</a:t>
            </a:r>
            <a:endParaRPr b="1" lang="en-US" sz="36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6940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ahoma"/>
                <a:ea typeface="宋体"/>
              </a:rPr>
              <a:t>B.1) Overall policy framework: </a:t>
            </a:r>
            <a:endParaRPr b="0" lang="en-US" sz="32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ahoma"/>
                <a:ea typeface="宋体"/>
              </a:rPr>
              <a:t>European consensus &amp; Strategy</a:t>
            </a:r>
            <a:endParaRPr b="0" lang="en-US" sz="32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宋体"/>
              </a:rPr>
              <a:t>B.2) Sector policy framework: </a:t>
            </a:r>
            <a:endParaRPr b="0" lang="en-US" sz="32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宋体"/>
              </a:rPr>
              <a:t>EC communications &amp;</a:t>
            </a:r>
            <a:endParaRPr b="0" lang="en-US" sz="32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宋体"/>
              </a:rPr>
              <a:t>Council conclusions</a:t>
            </a:r>
            <a:endParaRPr b="0" lang="en-US" sz="32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290" name="Picture 4" descr="MC900438493[1]"/>
          <p:cNvPicPr/>
          <p:nvPr/>
        </p:nvPicPr>
        <p:blipFill>
          <a:blip r:embed="rId3"/>
          <a:stretch/>
        </p:blipFill>
        <p:spPr>
          <a:xfrm>
            <a:off x="6546960" y="3429000"/>
            <a:ext cx="2136600" cy="32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.1) Overall policy framework: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European consensus &amp; Strategy</a:t>
            </a:r>
            <a:endParaRPr b="1" lang="en-US" sz="32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7724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Humanitarian Consensus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(2008/C 25/01)</a:t>
            </a: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Development Consensus =&gt; The European Consensus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(2006/C 46/01)</a:t>
            </a:r>
            <a:endParaRPr b="0" lang="en-US" sz="2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spcBef>
                <a:spcPts val="49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EU Security Strategy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宋体"/>
              </a:rPr>
              <a:t>(report the implementation of the Europe security strategy – proving security in a changing world – Approved by Council December 2008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5T14:28:50Z</dcterms:created>
  <dc:creator>newmajo</dc:creator>
  <dc:description/>
  <dc:language>en-US</dc:language>
  <cp:lastModifiedBy>gualdla</cp:lastModifiedBy>
  <cp:lastPrinted>2003-11-06T16:40:02Z</cp:lastPrinted>
  <dcterms:modified xsi:type="dcterms:W3CDTF">2010-08-25T10:06:22Z</dcterms:modified>
  <cp:revision>926</cp:revision>
  <dc:subject/>
  <dc:title>No Slide Title</dc:title>
</cp:coreProperties>
</file>